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4.jpeg" ContentType="image/jpeg"/>
  <Override PartName="/ppt/media/image24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3.jpeg" ContentType="image/jpeg"/>
  <Override PartName="/ppt/media/image2.jpeg" ContentType="image/jpeg"/>
  <Override PartName="/ppt/media/image3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01FE-7806-4B89-8F6D-F78EE16DA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1D4F-9F70-4C5D-9C2F-F3E16EA2C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27E6-D9DD-4BF5-ACEC-05F329FE0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DDA6-1414-4F39-BF3C-77CF900DD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BFACA0-8FBF-4358-8488-4652F194A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2AC120-96E5-4126-BDBD-C24EBC294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8469F0-3683-4D7B-9178-541DAFD1F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651E51-4716-4031-9432-314DB9AC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7DDE1A-69C7-447B-931B-69F577EB6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6BE6AF-F9F5-4AC7-9906-AD5EC2DEB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106A0D-0699-462E-8D30-4F0E09E7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C822-3396-43C0-8E7A-1771B23EC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AF3E9D-3227-41E0-B104-72072DE6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D93842-CD8B-4B7D-8FE7-5420A1BB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56D0DA-C816-42D7-BDC1-455C5B9E6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F533EA-9AD7-48D2-9516-D048B200D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F663CC-1176-4F45-8E70-270C9C367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AE16B-307E-4765-AC42-3DEB3F46F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FAF8B-DA0D-47FF-91D8-E420EA1AD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42FA3-6391-4BBF-B796-10B91966D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2CAB6-43FB-4B61-8EC2-30912723D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60486-2F47-4767-9208-C3CA4C29D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E506-B0C5-44C0-B318-B0EA1F04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910AD-ACC9-458C-8F97-80C79C74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B6F30-4613-4FC7-8E34-97FDFB56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5D9C6-E4B8-45F8-B0F0-AE39921E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65AB8-AE79-40BA-BD70-64DE6F8A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C538A-1E2C-41F4-B095-57AE1F429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B2A86-3883-4C16-9DFE-EA9E9D4FC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BED40-3E6F-4ED8-95BE-78167FE79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719EA-7B60-4612-9AB8-93CC2A960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262E2-E2F5-4557-8EA2-02DDC4066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9C153-4481-41AD-9ED4-60EAD71FA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4D6C-6BD0-4C8F-832B-1BA81239E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5BAFB-B66D-4C11-A199-897A8160E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CCA34-B887-4DC2-ACA5-0F81FB185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ECE0D-ECA6-4ABD-AD21-997E2DA98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FDE2B-B738-46A1-8BD3-1362A2C9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35618-70DB-4C48-A25A-76B25527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D405E-DE7F-4D58-9C92-9BB48D56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7CBD7-6DEF-4534-B02F-D02DB70E2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E997A-6CD6-4D10-A9BC-585802F33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EA259-5425-464A-BE8D-1AC9D9305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B0A86-D641-4979-B84D-5B74F02CF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9748-C348-4CCA-A5C1-F703483CA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91EE8A-B3A0-465C-ADC6-98C5F8E66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E0D4E-FD6B-4A8D-A2A2-B2AFE26B0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E7C46-4633-4822-82EA-0A8E2114C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EDAD6-3D8F-4EBF-984D-EF1DAAC7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98CD3-25EC-4412-BBAD-0986996D7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0DE18-E486-44C5-911D-CA77E3FC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94372-13C5-42FE-B45B-5B4E20B1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E9F77-491B-44CE-804F-9C3153F1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A1C970-50D1-4127-8D82-B1F39F78D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D329D-E700-4C34-8804-BF505F4F7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5174-99CD-4AB7-91DC-C7F914A20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45D60-0BC7-4737-9F1E-1D84B9B28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4D577-57E5-42BA-AED9-FC33DE0C7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E7C74F-8BD0-479E-8309-30A600CBF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3A1DD-CFFB-4EA5-9996-F725823D8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0C7AB-2F9E-4B1F-8965-ECB18DC98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DFC99-A3CF-4678-A986-1A9B69736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406CA-1EE0-4568-BF73-58DCA5940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72315-B4E0-489B-B2F4-37B50E87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1D7EA0-7A96-4692-9324-B06A0DC2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98BAA0-29FC-455F-8133-D6D5D943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3DE5-1DC0-4853-8E3A-93336A2F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C8502E-9A8E-4522-A4CF-25E78BB9D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AAF75-680C-4299-ABD2-EE7266A10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760410-E473-4E36-A03C-EF6BB3DAB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E3508F-0669-475C-9A49-4889A906A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847518-79C6-437C-90DB-E2A15C21F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407492-8E96-411E-87B4-0F51F62A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178DD-24BC-4505-A10B-1569AA885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05E1A7-47E8-45E2-8156-FAD502DD7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5CFAF-C497-4BC3-92FD-2B258A1F3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AFC932-D0AC-4C0A-96F0-FAC1CCBA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B315-23FC-4B2C-BE7B-8D2E3C2A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45375A-B27E-421A-8BC1-757DD461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E015B-EFE6-423A-B5C7-39A54625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7DEE65-B265-459F-8296-DCAC0908B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927CA5-BB66-4F03-B2C5-907E2C835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EE0B7D-00C6-445F-8FD2-39A9BD80D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D1C34B-F50B-4EB8-8969-1005C41A3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476DC6-7332-42FA-A9B6-364010117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F1A396-3F30-4467-84CD-87030059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1B2555-DCE4-4943-8AC0-930D37939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5CCBB2-A00F-46B9-8E62-1CBF78ADE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1C48-A760-44B2-8ED5-8157D3F3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975BE0-7FE5-44BC-95C3-F44000789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2CC02E-C634-42A3-8673-7BEA793D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62A29B-0026-4626-9783-36F9F67A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E79DDD-D144-4C40-87E6-9BF10D0A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E17818-5D57-496B-B727-EBCF4E7F5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7DBC3B-93D2-4FAF-BE63-0674F6715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5660D3-9F35-445E-94A2-3C0F4C9D8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E57533-969F-4D72-BB4C-31C0D11B1BB9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2B0EF1-0481-4F8E-8B31-42FBC99A8AA0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341280" y="928800"/>
            <a:ext cx="8433000" cy="17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457200" y="817560"/>
            <a:ext cx="8229600" cy="1173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4" descr="TitleSlideTop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357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TitleSlideBottom.jpg"/>
          <p:cNvPicPr/>
          <p:nvPr/>
        </p:nvPicPr>
        <p:blipFill>
          <a:blip r:embed="rId3"/>
          <a:stretch/>
        </p:blipFill>
        <p:spPr>
          <a:xfrm>
            <a:off x="457200" y="2700360"/>
            <a:ext cx="8229600" cy="3700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2EA31A-8AF9-4495-981F-91C25D60B627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5"/>
          </p:nvPr>
        </p:nvSpPr>
        <p:spPr>
          <a:xfrm>
            <a:off x="4305240" y="649296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D3B471-651B-4270-B97F-7255F2E3B8AD}" type="slidenum">
              <a:rPr b="1" lang="en-US" sz="11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6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326880" y="363600"/>
            <a:ext cx="8439120" cy="25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2" descr="SectionHeaderLeft.jpg"/>
          <p:cNvPicPr/>
          <p:nvPr/>
        </p:nvPicPr>
        <p:blipFill>
          <a:blip r:embed="rId2"/>
          <a:stretch/>
        </p:blipFill>
        <p:spPr>
          <a:xfrm>
            <a:off x="469800" y="457200"/>
            <a:ext cx="2217960" cy="5943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2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3"/>
          <p:cNvSpPr/>
          <p:nvPr/>
        </p:nvSpPr>
        <p:spPr>
          <a:xfrm rot="5400000">
            <a:off x="-223200" y="3369240"/>
            <a:ext cx="5943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135F19-7B42-412A-A465-BAD63581DEF9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06680" y="6492960"/>
            <a:ext cx="53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7F33D4-BFB8-43B9-AEEC-F18B4381D41A}" type="slidenum">
              <a:rPr b="1" lang="en-US" sz="11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10"/>
          <p:cNvSpPr/>
          <p:nvPr/>
        </p:nvSpPr>
        <p:spPr>
          <a:xfrm flipH="1">
            <a:off x="4572000" y="2797200"/>
            <a:ext cx="1440" cy="337500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792F55-A547-499E-8E6B-1ABF1042F21C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18ECBC-A73A-47B7-92E2-CDF187C7F90B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0"/>
          <p:cNvSpPr/>
          <p:nvPr/>
        </p:nvSpPr>
        <p:spPr>
          <a:xfrm>
            <a:off x="355680" y="566640"/>
            <a:ext cx="8396280" cy="25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457200" y="4572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B63256-B48C-40C3-9328-B23C2525C6F0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575B04-3E9C-45F9-9685-54916B639910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10"/>
          <p:cNvSpPr/>
          <p:nvPr/>
        </p:nvSpPr>
        <p:spPr>
          <a:xfrm>
            <a:off x="333360" y="566640"/>
            <a:ext cx="84549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2"/>
          <p:cNvSpPr/>
          <p:nvPr/>
        </p:nvSpPr>
        <p:spPr>
          <a:xfrm>
            <a:off x="457200" y="4572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9B0FD1-95D3-4B9E-A711-25EB97A3041C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CBDA27-694B-4B50-A9A0-96B490A2786A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355680" y="347760"/>
            <a:ext cx="8432640" cy="23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2"/>
          <p:cNvSpPr/>
          <p:nvPr/>
        </p:nvSpPr>
        <p:spPr>
          <a:xfrm rot="5400000">
            <a:off x="5597640" y="3310560"/>
            <a:ext cx="5943600" cy="2365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9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4B9246-C3AC-4A7A-8FB7-A2567628EC74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20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21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B406DC-AD86-4023-9B43-870EFDD7142A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0"/>
          <p:cNvSpPr/>
          <p:nvPr/>
        </p:nvSpPr>
        <p:spPr>
          <a:xfrm>
            <a:off x="347760" y="363600"/>
            <a:ext cx="8440560" cy="23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12" descr="VerticalRight.jpg"/>
          <p:cNvPicPr/>
          <p:nvPr/>
        </p:nvPicPr>
        <p:blipFill>
          <a:blip r:embed="rId2"/>
          <a:stretch/>
        </p:blipFill>
        <p:spPr>
          <a:xfrm>
            <a:off x="7112160" y="457200"/>
            <a:ext cx="1546200" cy="594360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12"/>
          <p:cNvSpPr/>
          <p:nvPr/>
        </p:nvSpPr>
        <p:spPr>
          <a:xfrm rot="5400000">
            <a:off x="4073760" y="3369240"/>
            <a:ext cx="5943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3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ADCD92-6437-43AB-A595-ADE5467A247A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654AFF-D9E7-4DB9-8E03-F19374BA444F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woodlands-junior.kent.sch.uk/Homework/Egypt.html" TargetMode="External"/><Relationship Id="rId2" Type="http://schemas.openxmlformats.org/officeDocument/2006/relationships/hyperlink" Target="http://www.love-egypt.com/map-of-egypt.htmlhttp://historylink101.net/egypt_1/a-education.htm" TargetMode="External"/><Relationship Id="rId3" Type="http://schemas.openxmlformats.org/officeDocument/2006/relationships/hyperlink" Target="http://www.king-tut.org.uk/ancient-egyptians/ancient-egyptian-education.htm" TargetMode="External"/><Relationship Id="rId4" Type="http://schemas.openxmlformats.org/officeDocument/2006/relationships/hyperlink" Target="http://en.wikipedia.org/wiki/Ancient_Egypt" TargetMode="External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440" y="968040"/>
            <a:ext cx="7799400" cy="12366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90000"/>
                </a:solidFill>
                <a:latin typeface="Calisto MT"/>
              </a:rPr>
              <a:t>Ancient Egypt</a:t>
            </a:r>
            <a:r>
              <a:rPr b="0" lang="en-US" sz="4600" spc="-1" strike="noStrike">
                <a:solidFill>
                  <a:srgbClr val="990000"/>
                </a:solidFill>
                <a:latin typeface="Calisto MT"/>
              </a:rPr>
              <a:t>	</a:t>
            </a:r>
            <a:r>
              <a:rPr b="0" lang="en-US" sz="4600" spc="-1" strike="noStrike">
                <a:solidFill>
                  <a:srgbClr val="990000"/>
                </a:solidFill>
                <a:latin typeface="Calisto MT"/>
              </a:rPr>
              <a:t>	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685440" y="2209320"/>
            <a:ext cx="7799400" cy="4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sto MT"/>
              </a:rPr>
              <a:t>By: Florian, Aliya, and Chrissie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The Rosetta Stone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658800" y="2285640"/>
            <a:ext cx="3657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Discovered by Napoleons soldiers' while digging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1400 years after 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Was the key to unlocking the mystery of ancient Egyptian hieroglyphics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</p:txBody>
      </p:sp>
      <p:pic>
        <p:nvPicPr>
          <p:cNvPr id="390" name="Content Placeholder 8" descr="rosetta-stone.jpeg"/>
          <p:cNvPicPr/>
          <p:nvPr/>
        </p:nvPicPr>
        <p:blipFill>
          <a:blip r:embed="rId1"/>
          <a:srcRect l="-11041" t="0" r="-11041" b="0"/>
          <a:stretch/>
        </p:blipFill>
        <p:spPr>
          <a:xfrm>
            <a:off x="4830840" y="2286000"/>
            <a:ext cx="3657600" cy="3840120"/>
          </a:xfrm>
          <a:prstGeom prst="rect">
            <a:avLst/>
          </a:prstGeom>
          <a:ln w="0">
            <a:noFill/>
          </a:ln>
        </p:spPr>
      </p:pic>
      <p:sp>
        <p:nvSpPr>
          <p:cNvPr id="391" name="TextBox 4"/>
          <p:cNvSpPr/>
          <p:nvPr/>
        </p:nvSpPr>
        <p:spPr>
          <a:xfrm>
            <a:off x="8319960" y="611964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Government in Ancient Egyp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Revolved around one figure – The pharaoh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Living God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eocracy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Priests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Army commanders, chief treasurers, the minister of public works, and tax collector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axation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Laws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94" name="TextBox 3"/>
          <p:cNvSpPr/>
          <p:nvPr/>
        </p:nvSpPr>
        <p:spPr>
          <a:xfrm>
            <a:off x="8319960" y="610884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Laws in Ancient Egyp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Pharaoh head of legal system – made laws 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Laws based on common sense view of right and wrong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Punishments for minor crimes 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Punishment for serious crimes (tomb raiding, murder) 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New Kingdom – oracles played major role in decision making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97" name="TextBox 3"/>
          <p:cNvSpPr/>
          <p:nvPr/>
        </p:nvSpPr>
        <p:spPr>
          <a:xfrm>
            <a:off x="8319960" y="610884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Ancient Egyptian Economy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71080" indent="-27108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rade on the Mediterranean Sea, Aegean Sea, and the Red Sea.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71080" indent="-27108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Other countries bought goods silver, iron, cedar logs, horses, ivory, copper, cattle, leopard skins, and spices.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71080" indent="-27108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Main goods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71080" indent="-27108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ost was measured in a deben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71080" indent="-27108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Jobs : Merchants, farmers, artist, soldier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71080" indent="-27108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asses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71080" indent="-271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71080" indent="-27108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00" name="TextBox 3"/>
          <p:cNvSpPr/>
          <p:nvPr/>
        </p:nvSpPr>
        <p:spPr>
          <a:xfrm>
            <a:off x="8319960" y="610884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Ancient Egyptian Economy Graph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402" name="Content Placeholder 3" descr=""/>
          <p:cNvPicPr/>
          <p:nvPr/>
        </p:nvPicPr>
        <p:blipFill>
          <a:blip r:embed="rId1"/>
          <a:stretch/>
        </p:blipFill>
        <p:spPr>
          <a:xfrm>
            <a:off x="2279520" y="2279520"/>
            <a:ext cx="6212160" cy="3853080"/>
          </a:xfrm>
          <a:prstGeom prst="rect">
            <a:avLst/>
          </a:prstGeom>
          <a:ln w="0">
            <a:noFill/>
          </a:ln>
        </p:spPr>
      </p:pic>
      <p:sp>
        <p:nvSpPr>
          <p:cNvPr id="403" name="TextBox 5"/>
          <p:cNvSpPr/>
          <p:nvPr/>
        </p:nvSpPr>
        <p:spPr>
          <a:xfrm>
            <a:off x="1170000" y="2757600"/>
            <a:ext cx="25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7"/>
          <p:cNvSpPr/>
          <p:nvPr/>
        </p:nvSpPr>
        <p:spPr>
          <a:xfrm>
            <a:off x="658800" y="387684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dl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8"/>
          <p:cNvSpPr/>
          <p:nvPr/>
        </p:nvSpPr>
        <p:spPr>
          <a:xfrm>
            <a:off x="658800" y="5281560"/>
            <a:ext cx="134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6"/>
          <p:cNvSpPr/>
          <p:nvPr/>
        </p:nvSpPr>
        <p:spPr>
          <a:xfrm>
            <a:off x="8319960" y="610884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The Golden Coin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663480" y="2293560"/>
            <a:ext cx="3657600" cy="38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Archeologists 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discovered ancient Egyptian coins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name and image of the biblical Joseph, Cairo's Al Ahram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Newspaper from Egypt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Journalist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</p:txBody>
      </p:sp>
      <p:pic>
        <p:nvPicPr>
          <p:cNvPr id="409" name="Content Placeholder 6" descr="AE-golden-coin.JPG"/>
          <p:cNvPicPr/>
          <p:nvPr/>
        </p:nvPicPr>
        <p:blipFill>
          <a:blip r:embed="rId1"/>
          <a:srcRect l="-5927" t="0" r="-5927" b="0"/>
          <a:stretch/>
        </p:blipFill>
        <p:spPr>
          <a:xfrm>
            <a:off x="4827600" y="2797200"/>
            <a:ext cx="3657600" cy="3328920"/>
          </a:xfrm>
          <a:prstGeom prst="rect">
            <a:avLst/>
          </a:prstGeom>
          <a:ln w="0">
            <a:noFill/>
          </a:ln>
        </p:spPr>
      </p:pic>
      <p:sp>
        <p:nvSpPr>
          <p:cNvPr id="410" name="TextBox 4"/>
          <p:cNvSpPr/>
          <p:nvPr/>
        </p:nvSpPr>
        <p:spPr>
          <a:xfrm>
            <a:off x="8319960" y="610884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Art in Ancient Egyp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658800" y="2285640"/>
            <a:ext cx="51213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r over 3500 years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sto MT"/>
              </a:rPr>
              <a:t>Paint made out of minerals 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iron ores (red and yellow ochres), copper ores (blue and green)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oot or charcoal (black), and limestone (white). 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 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pic>
        <p:nvPicPr>
          <p:cNvPr id="413" name="Picture 3" descr=""/>
          <p:cNvPicPr/>
          <p:nvPr/>
        </p:nvPicPr>
        <p:blipFill>
          <a:blip r:embed="rId1"/>
          <a:stretch/>
        </p:blipFill>
        <p:spPr>
          <a:xfrm>
            <a:off x="5354640" y="4222800"/>
            <a:ext cx="3110040" cy="23274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4" descr=""/>
          <p:cNvPicPr/>
          <p:nvPr/>
        </p:nvPicPr>
        <p:blipFill>
          <a:blip r:embed="rId2"/>
          <a:stretch/>
        </p:blipFill>
        <p:spPr>
          <a:xfrm>
            <a:off x="5621400" y="2004840"/>
            <a:ext cx="2913120" cy="1943280"/>
          </a:xfrm>
          <a:prstGeom prst="rect">
            <a:avLst/>
          </a:prstGeom>
          <a:ln w="0">
            <a:noFill/>
          </a:ln>
        </p:spPr>
      </p:pic>
      <p:sp>
        <p:nvSpPr>
          <p:cNvPr id="415" name="TextBox 5"/>
          <p:cNvSpPr/>
          <p:nvPr/>
        </p:nvSpPr>
        <p:spPr>
          <a:xfrm>
            <a:off x="8319960" y="610884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Art in Ancient Egyp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658800" y="2285640"/>
            <a:ext cx="3657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62626"/>
                </a:solidFill>
                <a:latin typeface="Calisto MT"/>
              </a:rPr>
              <a:t>Why they did art?</a:t>
            </a:r>
            <a:endParaRPr b="0" lang="en-US" sz="19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62626"/>
                </a:solidFill>
                <a:latin typeface="Calisto MT"/>
              </a:rPr>
              <a:t>To make them proud</a:t>
            </a:r>
            <a:endParaRPr b="0" lang="en-US" sz="19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62626"/>
                </a:solidFill>
                <a:latin typeface="Calisto MT"/>
              </a:rPr>
              <a:t>Dead Man standing in the barge of the sun worshiping the phoenix, symoble of the sun god of Heliopolis, Tomb of Irinefer</a:t>
            </a:r>
            <a:endParaRPr b="0" lang="en-US" sz="19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830840" y="2285640"/>
            <a:ext cx="3657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pic>
        <p:nvPicPr>
          <p:cNvPr id="419" name="Picture 4" descr=""/>
          <p:cNvPicPr/>
          <p:nvPr/>
        </p:nvPicPr>
        <p:blipFill>
          <a:blip r:embed="rId1"/>
          <a:stretch/>
        </p:blipFill>
        <p:spPr>
          <a:xfrm>
            <a:off x="4830840" y="2911320"/>
            <a:ext cx="3652920" cy="2435400"/>
          </a:xfrm>
          <a:prstGeom prst="rect">
            <a:avLst/>
          </a:prstGeom>
          <a:ln w="0">
            <a:noFill/>
          </a:ln>
        </p:spPr>
      </p:pic>
      <p:sp>
        <p:nvSpPr>
          <p:cNvPr id="420" name="TextBox 5"/>
          <p:cNvSpPr/>
          <p:nvPr/>
        </p:nvSpPr>
        <p:spPr>
          <a:xfrm>
            <a:off x="8319960" y="610884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Religion in Ancient Egyp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658800" y="2285640"/>
            <a:ext cx="3657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5320" indent="-26532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Polytheistic – worshipped more than 2,000 gods and goddesses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65320" indent="-26532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Believed in afterlife – Anubis god of the underworld weighed dead person’s heart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65320" indent="-26532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All classes planned for burials – royals built large tombs and pyramids, others built smaller tombs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65320" indent="-26532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Royal and elite Egyptians preserved by mummification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</p:txBody>
      </p:sp>
      <p:pic>
        <p:nvPicPr>
          <p:cNvPr id="423" name="Content Placeholder 4" descr="giza-pyramids-at-dusk.jpg"/>
          <p:cNvPicPr/>
          <p:nvPr/>
        </p:nvPicPr>
        <p:blipFill>
          <a:blip r:embed="rId1"/>
          <a:srcRect l="0" t="-20087" r="0" b="-20087"/>
          <a:stretch/>
        </p:blipFill>
        <p:spPr>
          <a:xfrm>
            <a:off x="4830840" y="2286000"/>
            <a:ext cx="3657600" cy="3840120"/>
          </a:xfrm>
          <a:prstGeom prst="rect">
            <a:avLst/>
          </a:prstGeom>
          <a:ln w="0">
            <a:noFill/>
          </a:ln>
        </p:spPr>
      </p:pic>
      <p:sp>
        <p:nvSpPr>
          <p:cNvPr id="424" name="TextBox 4"/>
          <p:cNvSpPr/>
          <p:nvPr/>
        </p:nvSpPr>
        <p:spPr>
          <a:xfrm>
            <a:off x="8319960" y="610884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Anubis - god of the dead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58800" y="2285640"/>
            <a:ext cx="3657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sto MT"/>
              </a:rPr>
              <a:t>The god and guide of the underworld</a:t>
            </a:r>
            <a:endParaRPr b="0" lang="en-US" sz="14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sto MT"/>
              </a:rPr>
              <a:t>Weigh each dead person’s heart</a:t>
            </a:r>
            <a:endParaRPr b="0" lang="en-US" sz="14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sto MT"/>
              </a:rPr>
              <a:t>Test for purity and truth, if passed would live forever in the beautiful Other World</a:t>
            </a:r>
            <a:endParaRPr b="0" lang="en-US" sz="14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sto MT"/>
              </a:rPr>
              <a:t>Win eternal life if no heavier than a feather</a:t>
            </a:r>
            <a:endParaRPr b="0" lang="en-US" sz="14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sto MT"/>
              </a:rPr>
              <a:t>If tipped scale the heart was heavy with sin </a:t>
            </a:r>
            <a:endParaRPr b="0" lang="en-US" sz="14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sto MT"/>
              </a:rPr>
              <a:t>Would oversee the embalming and mummification of the dead</a:t>
            </a:r>
            <a:endParaRPr b="0" lang="en-US" sz="14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sto MT"/>
              </a:rPr>
              <a:t>Today still worshipped by sects of pagan religions</a:t>
            </a:r>
            <a:endParaRPr b="0" lang="en-US" sz="1400" spc="-1" strike="noStrike">
              <a:solidFill>
                <a:srgbClr val="262626"/>
              </a:solidFill>
              <a:latin typeface="Calisto MT"/>
            </a:endParaRPr>
          </a:p>
        </p:txBody>
      </p:sp>
      <p:pic>
        <p:nvPicPr>
          <p:cNvPr id="427" name="Content Placeholder 13" descr="E110SPM2.jpg"/>
          <p:cNvPicPr/>
          <p:nvPr/>
        </p:nvPicPr>
        <p:blipFill>
          <a:blip r:embed="rId1"/>
          <a:srcRect l="-21713" t="0" r="-21713" b="0"/>
          <a:stretch/>
        </p:blipFill>
        <p:spPr>
          <a:xfrm>
            <a:off x="4727520" y="2057400"/>
            <a:ext cx="3629160" cy="337356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3"/>
          <p:cNvSpPr/>
          <p:nvPr/>
        </p:nvSpPr>
        <p:spPr>
          <a:xfrm>
            <a:off x="658800" y="455760"/>
            <a:ext cx="7824960" cy="13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14" descr=""/>
          <p:cNvPicPr/>
          <p:nvPr/>
        </p:nvPicPr>
        <p:blipFill>
          <a:blip r:embed="rId2"/>
          <a:stretch/>
        </p:blipFill>
        <p:spPr>
          <a:xfrm>
            <a:off x="4971960" y="5538960"/>
            <a:ext cx="3243240" cy="930240"/>
          </a:xfrm>
          <a:prstGeom prst="rect">
            <a:avLst/>
          </a:prstGeom>
          <a:ln w="0">
            <a:noFill/>
          </a:ln>
        </p:spPr>
      </p:pic>
      <p:sp>
        <p:nvSpPr>
          <p:cNvPr id="430" name="TextBox 6"/>
          <p:cNvSpPr/>
          <p:nvPr/>
        </p:nvSpPr>
        <p:spPr>
          <a:xfrm>
            <a:off x="8319960" y="610884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ontents</a:t>
            </a: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	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58800" y="2285640"/>
            <a:ext cx="3657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Calisto MT"/>
              </a:rPr>
              <a:t>Introduction to Ancient Egypt</a:t>
            </a:r>
            <a:endParaRPr b="0" lang="en-US" sz="13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Calisto MT"/>
              </a:rPr>
              <a:t>Education in Ancient Egypt</a:t>
            </a:r>
            <a:endParaRPr b="0" lang="en-US" sz="13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Calisto MT"/>
              </a:rPr>
              <a:t>Laws in Ancient Egypt</a:t>
            </a:r>
            <a:endParaRPr b="0" lang="en-US" sz="13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Calisto MT"/>
              </a:rPr>
              <a:t>Religion in Ancient Egypt</a:t>
            </a:r>
            <a:endParaRPr b="0" lang="en-US" sz="13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Calisto MT"/>
              </a:rPr>
              <a:t>Art in Ancient Egypt</a:t>
            </a:r>
            <a:endParaRPr b="0" lang="en-US" sz="13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Calisto MT"/>
              </a:rPr>
              <a:t>Culture in Ancient Egypt</a:t>
            </a:r>
            <a:endParaRPr b="0" lang="en-US" sz="13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Calisto MT"/>
              </a:rPr>
              <a:t>Language in Ancient Egypt</a:t>
            </a:r>
            <a:endParaRPr b="0" lang="en-US" sz="13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Calisto MT"/>
              </a:rPr>
              <a:t>Economy in Ancient Egypt</a:t>
            </a:r>
            <a:endParaRPr b="0" lang="en-US" sz="13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Calisto MT"/>
              </a:rPr>
              <a:t>Government in Ancient Egypt</a:t>
            </a:r>
            <a:endParaRPr b="0" lang="en-US" sz="13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Calisto MT"/>
              </a:rPr>
              <a:t>Bibliography </a:t>
            </a:r>
            <a:endParaRPr b="0" lang="en-US" sz="13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Calisto MT"/>
            </a:endParaRPr>
          </a:p>
        </p:txBody>
      </p:sp>
      <p:pic>
        <p:nvPicPr>
          <p:cNvPr id="361" name="Content Placeholder 4" descr="pyramid3.jpg"/>
          <p:cNvPicPr/>
          <p:nvPr/>
        </p:nvPicPr>
        <p:blipFill>
          <a:blip r:embed="rId1"/>
          <a:srcRect l="0" t="-28636" r="0" b="-28636"/>
          <a:stretch/>
        </p:blipFill>
        <p:spPr>
          <a:xfrm>
            <a:off x="4830840" y="2286000"/>
            <a:ext cx="365760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Ancient Egyptian Culture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6588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Religion really importan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Men and women had many of the same rights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Games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Most slaves were farmers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osmetics for work and play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pic>
        <p:nvPicPr>
          <p:cNvPr id="433" name="Picture 3" descr=""/>
          <p:cNvPicPr/>
          <p:nvPr/>
        </p:nvPicPr>
        <p:blipFill>
          <a:blip r:embed="rId1"/>
          <a:srcRect l="0" t="0" r="0" b="45022"/>
          <a:stretch/>
        </p:blipFill>
        <p:spPr>
          <a:xfrm>
            <a:off x="4951440" y="3843360"/>
            <a:ext cx="3809880" cy="1557360"/>
          </a:xfrm>
          <a:prstGeom prst="rect">
            <a:avLst/>
          </a:prstGeom>
          <a:ln w="0">
            <a:noFill/>
          </a:ln>
        </p:spPr>
      </p:pic>
      <p:sp>
        <p:nvSpPr>
          <p:cNvPr id="434" name="TextBox 4"/>
          <p:cNvSpPr/>
          <p:nvPr/>
        </p:nvSpPr>
        <p:spPr>
          <a:xfrm>
            <a:off x="8319960" y="610884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Ancient Egyptian Culture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1029960" y="2785680"/>
            <a:ext cx="61974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Pets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Royal dogs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urgeons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Papyrus growers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37" name="TextBox 3"/>
          <p:cNvSpPr/>
          <p:nvPr/>
        </p:nvSpPr>
        <p:spPr>
          <a:xfrm>
            <a:off x="8319960" y="610884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Language in Ancient Egyp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62626"/>
                </a:solidFill>
                <a:latin typeface="Calisto MT"/>
              </a:rPr>
              <a:t>First pictographs</a:t>
            </a:r>
            <a:endParaRPr b="0" lang="en-US" sz="17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62626"/>
                </a:solidFill>
                <a:latin typeface="Calisto MT"/>
              </a:rPr>
              <a:t>Got more flexible </a:t>
            </a:r>
            <a:endParaRPr b="0" lang="en-US" sz="17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62626"/>
                </a:solidFill>
                <a:latin typeface="Calisto MT"/>
              </a:rPr>
              <a:t>Hieroglyphics</a:t>
            </a:r>
            <a:endParaRPr b="0" lang="en-US" sz="17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62626"/>
                </a:solidFill>
                <a:latin typeface="Calisto MT"/>
              </a:rPr>
              <a:t>From greek word</a:t>
            </a:r>
            <a:endParaRPr b="0" lang="en-US" sz="17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62626"/>
                </a:solidFill>
                <a:latin typeface="Calisto MT"/>
              </a:rPr>
              <a:t>Meaning “sacred carving”</a:t>
            </a:r>
            <a:endParaRPr b="0" lang="en-US" sz="17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62626"/>
                </a:solidFill>
                <a:latin typeface="Calisto MT"/>
              </a:rPr>
              <a:t>Each picture stood for an idea</a:t>
            </a:r>
            <a:endParaRPr b="0" lang="en-US" sz="17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62626"/>
                </a:solidFill>
                <a:latin typeface="Calisto MT"/>
              </a:rPr>
              <a:t>Papyrus made out of reeds and used as paper</a:t>
            </a:r>
            <a:endParaRPr b="0" lang="en-US" sz="17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62626"/>
                </a:solidFill>
                <a:latin typeface="Calisto MT"/>
              </a:rPr>
              <a:t> </a:t>
            </a:r>
            <a:endParaRPr b="0" lang="en-US" sz="17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40" name="TextBox 3"/>
          <p:cNvSpPr/>
          <p:nvPr/>
        </p:nvSpPr>
        <p:spPr>
          <a:xfrm>
            <a:off x="8319960" y="610884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Language in Ancient Egyp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442" name="Content Placeholder 3" descr="egypt2.jpg"/>
          <p:cNvPicPr/>
          <p:nvPr/>
        </p:nvPicPr>
        <p:blipFill>
          <a:blip r:embed="rId1"/>
          <a:srcRect l="-21429" t="0" r="-21429" b="0"/>
          <a:stretch/>
        </p:blipFill>
        <p:spPr>
          <a:xfrm>
            <a:off x="658800" y="2286000"/>
            <a:ext cx="3657600" cy="384012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 txBox="1"/>
          <p:nvPr/>
        </p:nvSpPr>
        <p:spPr>
          <a:xfrm>
            <a:off x="4830840" y="2285640"/>
            <a:ext cx="3657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The hieroglyphics these are the letters they used to write with and they also used them to do arts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44" name="TextBox 6"/>
          <p:cNvSpPr/>
          <p:nvPr/>
        </p:nvSpPr>
        <p:spPr>
          <a:xfrm>
            <a:off x="227160" y="1417680"/>
            <a:ext cx="6016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5"/>
          <p:cNvSpPr/>
          <p:nvPr/>
        </p:nvSpPr>
        <p:spPr>
          <a:xfrm>
            <a:off x="8319960" y="610884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bibliography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ef8e1c"/>
                </a:solidFill>
                <a:uFillTx/>
                <a:latin typeface="Calisto MT"/>
                <a:hlinkClick r:id="rId1"/>
              </a:rPr>
              <a:t>http://www.woodlands-junior.kent.sch.uk/Homework/Egypt.html</a:t>
            </a:r>
            <a:endParaRPr b="0" lang="en-US" sz="19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ef8e1c"/>
                </a:solidFill>
                <a:uFillTx/>
                <a:latin typeface="Calisto MT"/>
                <a:hlinkClick r:id="rId2"/>
              </a:rPr>
              <a:t>http://www.love-egypt.com/map-of-egypt.htmlhttp://historylink101.net/egypt_1/a-education.htm</a:t>
            </a:r>
            <a:endParaRPr b="0" lang="en-US" sz="19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ef8e1c"/>
                </a:solidFill>
                <a:uFillTx/>
                <a:latin typeface="Calisto MT"/>
                <a:hlinkClick r:id="rId3"/>
              </a:rPr>
              <a:t>http://www.king-tut.org.uk/ancient-egyptians/ancient-egyptian-education.htm</a:t>
            </a:r>
            <a:r>
              <a:rPr b="0" lang="en-US" sz="1900" spc="-1" strike="noStrike" u="sng">
                <a:solidFill>
                  <a:srgbClr val="262626"/>
                </a:solidFill>
                <a:uFillTx/>
                <a:latin typeface="Calisto MT"/>
              </a:rPr>
              <a:t> </a:t>
            </a:r>
            <a:endParaRPr b="0" lang="en-US" sz="19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ef8e1c"/>
                </a:solidFill>
                <a:uFillTx/>
                <a:latin typeface="Calisto MT"/>
                <a:hlinkClick r:id="rId4"/>
              </a:rPr>
              <a:t>http://en.wikipedia.org/wiki/Ancient_Egypt</a:t>
            </a:r>
            <a:endParaRPr b="0" lang="en-US" sz="19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62626"/>
                </a:solidFill>
                <a:latin typeface="Calisto MT"/>
              </a:rPr>
              <a:t>http://www.ancient-egypt-online.com/ancient-egyptian-gods-anubis.html</a:t>
            </a:r>
            <a:endParaRPr b="0" lang="en-US" sz="19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62626"/>
                </a:solidFill>
                <a:latin typeface="Calibri"/>
              </a:rPr>
              <a:t>http://liology.wordpress.com/2010/01/13/the-rosetta-stone-of-metaphysics-the-li/</a:t>
            </a:r>
            <a:endParaRPr b="0" lang="en-US" sz="19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Bibliography 2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57040" indent="-25704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http://www.womenintheancientworld.com/economy.htm.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57040" indent="-25704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http://home.earthlink.net/~marond/economy_pink.html.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57040" indent="-25704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http://nefertiti.iwebland.com/economy/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57040" indent="-257040">
              <a:lnSpc>
                <a:spcPct val="10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bri"/>
              </a:rPr>
              <a:t>http://en.wikipedia.org/wiki/Ancient_Egyp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57040" indent="-257040">
              <a:lnSpc>
                <a:spcPct val="10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bri"/>
              </a:rPr>
              <a:t>http://www.ancientegypt.co.uk/life/home.htm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57040" indent="-257040">
              <a:lnSpc>
                <a:spcPct val="10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bri"/>
              </a:rPr>
              <a:t>http://www.ancientegypt.co.uk/time/home.htm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57040" indent="-257040">
              <a:lnSpc>
                <a:spcPct val="10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bri"/>
              </a:rPr>
              <a:t>http://www.allaboutwheat.info/history.htm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57040" indent="-25704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57040" indent="-257040">
              <a:lnSpc>
                <a:spcPct val="10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57040" indent="-25704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57040" indent="-25704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Thank You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375080" y="2752560"/>
            <a:ext cx="3525840" cy="38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62626"/>
                </a:solidFill>
                <a:latin typeface="Calisto MT"/>
              </a:rPr>
              <a:t>Thank you for your time … we hope you learnt more about ANCIENT EGYPT!!</a:t>
            </a:r>
            <a:endParaRPr b="0" lang="en-US" sz="2900" spc="-1" strike="noStrike">
              <a:solidFill>
                <a:srgbClr val="262626"/>
              </a:solidFill>
              <a:latin typeface="Calisto MT"/>
            </a:endParaRPr>
          </a:p>
        </p:txBody>
      </p:sp>
      <p:pic>
        <p:nvPicPr>
          <p:cNvPr id="452" name="Picture 3" descr=""/>
          <p:cNvPicPr/>
          <p:nvPr/>
        </p:nvPicPr>
        <p:blipFill>
          <a:blip r:embed="rId1"/>
          <a:stretch/>
        </p:blipFill>
        <p:spPr>
          <a:xfrm>
            <a:off x="790560" y="2536920"/>
            <a:ext cx="27939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Timeline of the Ancient Egyptian Civilization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363" name="Content Placeholder 5" descr="egypt_time-line2.gif"/>
          <p:cNvPicPr/>
          <p:nvPr/>
        </p:nvPicPr>
        <p:blipFill>
          <a:blip r:embed="rId1"/>
          <a:srcRect l="0" t="-6677" r="0" b="-6677"/>
          <a:stretch/>
        </p:blipFill>
        <p:spPr>
          <a:xfrm>
            <a:off x="1252440" y="2116080"/>
            <a:ext cx="6861240" cy="4251240"/>
          </a:xfrm>
          <a:prstGeom prst="rect">
            <a:avLst/>
          </a:prstGeom>
          <a:ln w="0">
            <a:noFill/>
          </a:ln>
        </p:spPr>
      </p:pic>
      <p:sp>
        <p:nvSpPr>
          <p:cNvPr id="364" name="TextBox 4"/>
          <p:cNvSpPr/>
          <p:nvPr/>
        </p:nvSpPr>
        <p:spPr>
          <a:xfrm>
            <a:off x="8319960" y="610884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alisto MT"/>
              </a:rPr>
              <a:t>Where is Ancient Egypt?</a:t>
            </a:r>
            <a:endParaRPr b="0" lang="en-US" sz="3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58800" y="2285640"/>
            <a:ext cx="3657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sto MT"/>
              </a:rPr>
              <a:t>Egypt is in the northeast of Africa</a:t>
            </a:r>
            <a:endParaRPr b="0" lang="en-US" sz="22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sto MT"/>
              </a:rPr>
              <a:t> </a:t>
            </a:r>
            <a:r>
              <a:rPr b="0" lang="en-US" sz="2200" spc="-1" strike="noStrike">
                <a:solidFill>
                  <a:srgbClr val="262626"/>
                </a:solidFill>
                <a:latin typeface="Calisto MT"/>
              </a:rPr>
              <a:t>River Nile flows through Egypt</a:t>
            </a:r>
            <a:endParaRPr b="0" lang="en-US" sz="22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sto MT"/>
              </a:rPr>
              <a:t> </a:t>
            </a:r>
            <a:r>
              <a:rPr b="0" lang="en-US" sz="2200" spc="-1" strike="noStrike">
                <a:solidFill>
                  <a:srgbClr val="262626"/>
                </a:solidFill>
                <a:latin typeface="Calisto MT"/>
              </a:rPr>
              <a:t>Ancient Egyptians settled along the river</a:t>
            </a:r>
            <a:endParaRPr b="0" lang="en-US" sz="22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sto MT"/>
              </a:rPr>
              <a:t> </a:t>
            </a:r>
            <a:r>
              <a:rPr b="0" lang="en-US" sz="2200" spc="-1" strike="noStrike">
                <a:solidFill>
                  <a:srgbClr val="262626"/>
                </a:solidFill>
                <a:latin typeface="Calisto MT"/>
              </a:rPr>
              <a:t>Farmers first settles in 5000BCE</a:t>
            </a:r>
            <a:endParaRPr b="0" lang="en-US" sz="2200" spc="-1" strike="noStrike">
              <a:solidFill>
                <a:srgbClr val="262626"/>
              </a:solidFill>
              <a:latin typeface="Calisto MT"/>
            </a:endParaRPr>
          </a:p>
        </p:txBody>
      </p:sp>
      <p:pic>
        <p:nvPicPr>
          <p:cNvPr id="367" name="Picture 3" descr=""/>
          <p:cNvPicPr/>
          <p:nvPr/>
        </p:nvPicPr>
        <p:blipFill>
          <a:blip r:embed="rId1"/>
          <a:stretch/>
        </p:blipFill>
        <p:spPr>
          <a:xfrm>
            <a:off x="4917960" y="1989000"/>
            <a:ext cx="3249720" cy="30225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12" descr=""/>
          <p:cNvPicPr/>
          <p:nvPr/>
        </p:nvPicPr>
        <p:blipFill>
          <a:blip r:embed="rId2"/>
          <a:stretch/>
        </p:blipFill>
        <p:spPr>
          <a:xfrm>
            <a:off x="4917960" y="4929120"/>
            <a:ext cx="3249720" cy="1617840"/>
          </a:xfrm>
          <a:prstGeom prst="rect">
            <a:avLst/>
          </a:prstGeom>
          <a:ln w="0">
            <a:noFill/>
          </a:ln>
        </p:spPr>
      </p:pic>
      <p:sp>
        <p:nvSpPr>
          <p:cNvPr id="369" name="TextBox 5"/>
          <p:cNvSpPr/>
          <p:nvPr/>
        </p:nvSpPr>
        <p:spPr>
          <a:xfrm>
            <a:off x="8319960" y="610884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When did the civilization start?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58800" y="2285640"/>
            <a:ext cx="3657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Started 3100BCE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Lasted 3000 years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Many changes and turns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31 dynasties in total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</p:txBody>
      </p:sp>
      <p:pic>
        <p:nvPicPr>
          <p:cNvPr id="372" name="Content Placeholder 4" descr="dfsa"/>
          <p:cNvPicPr/>
          <p:nvPr/>
        </p:nvPicPr>
        <p:blipFill>
          <a:blip r:embed="rId1"/>
          <a:srcRect l="0" t="-34508" r="0" b="-34508"/>
          <a:stretch/>
        </p:blipFill>
        <p:spPr>
          <a:xfrm>
            <a:off x="4830840" y="2286000"/>
            <a:ext cx="3657600" cy="3840120"/>
          </a:xfrm>
          <a:prstGeom prst="rect">
            <a:avLst/>
          </a:prstGeom>
          <a:ln w="0">
            <a:noFill/>
          </a:ln>
        </p:spPr>
      </p:pic>
      <p:sp>
        <p:nvSpPr>
          <p:cNvPr id="373" name="TextBox 4"/>
          <p:cNvSpPr/>
          <p:nvPr/>
        </p:nvSpPr>
        <p:spPr>
          <a:xfrm>
            <a:off x="8319960" y="610884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Who lived in this area?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nded by a King Menes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343B.C.E. The Romans 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eopatra VII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e Islamic Empire 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Ottoman Turks - 1517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14</a:t>
            </a:r>
            <a:r>
              <a:rPr b="0" lang="en-US" sz="2000" spc="-1" strike="noStrike" baseline="30000">
                <a:solidFill>
                  <a:srgbClr val="262626"/>
                </a:solidFill>
                <a:latin typeface="Calisto MT"/>
              </a:rPr>
              <a:t>th</a:t>
            </a: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 century – black death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76" name="TextBox 3"/>
          <p:cNvSpPr/>
          <p:nvPr/>
        </p:nvSpPr>
        <p:spPr>
          <a:xfrm>
            <a:off x="8319960" y="610884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What was their purpose?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58800" y="2285640"/>
            <a:ext cx="3657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Invention and Ideas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Pyramids and Tombs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Valley of the Kings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Engineering Ideas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Cairo 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</p:txBody>
      </p:sp>
      <p:pic>
        <p:nvPicPr>
          <p:cNvPr id="379" name="Content Placeholder 6" descr="Egyptians.jpg"/>
          <p:cNvPicPr/>
          <p:nvPr/>
        </p:nvPicPr>
        <p:blipFill>
          <a:blip r:embed="rId1"/>
          <a:srcRect l="0" t="-24958" r="0" b="-24958"/>
          <a:stretch/>
        </p:blipFill>
        <p:spPr>
          <a:xfrm>
            <a:off x="4830840" y="2286000"/>
            <a:ext cx="3657600" cy="3840120"/>
          </a:xfrm>
          <a:prstGeom prst="rect">
            <a:avLst/>
          </a:prstGeom>
          <a:ln w="0">
            <a:noFill/>
          </a:ln>
        </p:spPr>
      </p:pic>
      <p:sp>
        <p:nvSpPr>
          <p:cNvPr id="380" name="TextBox 4"/>
          <p:cNvSpPr/>
          <p:nvPr/>
        </p:nvSpPr>
        <p:spPr>
          <a:xfrm>
            <a:off x="8319960" y="610884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How did if form?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58800" y="2285640"/>
            <a:ext cx="3657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5000BCE lived in farming villages 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Had rituals, gods, and chieftain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3000BCE united into 2 kingdoms, Lower Egypt and Upper Egypt 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3100BCE King Menes united both kingdoms 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</p:txBody>
      </p:sp>
      <p:pic>
        <p:nvPicPr>
          <p:cNvPr id="383" name="Content Placeholder 4" descr="images.jpg"/>
          <p:cNvPicPr/>
          <p:nvPr/>
        </p:nvPicPr>
        <p:blipFill>
          <a:blip r:embed="rId1"/>
          <a:srcRect l="-37798" t="0" r="-37798" b="0"/>
          <a:stretch/>
        </p:blipFill>
        <p:spPr>
          <a:xfrm>
            <a:off x="4830840" y="2286000"/>
            <a:ext cx="3657600" cy="3840120"/>
          </a:xfrm>
          <a:prstGeom prst="rect">
            <a:avLst/>
          </a:prstGeom>
          <a:ln w="0">
            <a:noFill/>
          </a:ln>
        </p:spPr>
      </p:pic>
      <p:sp>
        <p:nvSpPr>
          <p:cNvPr id="384" name="TextBox 4"/>
          <p:cNvSpPr/>
          <p:nvPr/>
        </p:nvSpPr>
        <p:spPr>
          <a:xfrm>
            <a:off x="8319960" y="610884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Education in Ancient Egyp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tayed with mothers until 4 years old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athers educated boys after first 4 years, usually follow in trade of father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chools for royalty, wealthy, scribes or priests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Girls educated by mother – house keeping, cooking, brewing, making clothes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Women excluded from ruling bureaucracy, temple elite, not eligible to work as scribes 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87" name="TextBox 3"/>
          <p:cNvSpPr/>
          <p:nvPr/>
        </p:nvSpPr>
        <p:spPr>
          <a:xfrm>
            <a:off x="8319960" y="610884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7:06:21Z</dcterms:created>
  <dc:creator>IT User</dc:creator>
  <dc:description/>
  <dc:language>en-US</dc:language>
  <cp:lastModifiedBy>IT User</cp:lastModifiedBy>
  <dcterms:modified xsi:type="dcterms:W3CDTF">2010-10-05T07:40:40Z</dcterms:modified>
  <cp:revision>20</cp:revision>
  <dc:subject/>
  <dc:title>Ancient Egypt  </dc:title>
</cp:coreProperties>
</file>